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5A5-4147-473E-8837-29DE6407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172-919E-40F7-B580-BB0EE92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F7915-2C9B-4A53-B3A2-D5567052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F9175F-7186-42A4-9F6B-B23308FF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1D8CCB-FB82-4F83-A88D-06584AA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5C7FF-B286-4E82-B756-CCD9FBD6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014A7-FD24-40BB-AC2A-29C758DC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C4A70-3245-4A15-A6AC-8347F00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80C2D1-F4FD-4FF1-A8AC-22BA4486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0B6A8-A4B9-4D3B-83ED-7CE7C0FE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8A5F59-2756-41FD-997E-187E9DE8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040-DDAA-49B3-B803-C00779AF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EE5-02CE-4336-AFC0-143AC45E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B65E4-006D-4846-9ACB-5D03DDE5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CC1A1-2CF9-423D-AC0F-5E50A09A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5C6D1-FE80-4623-9958-7F8D5580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E182C-116A-4B29-8C71-0CCA2EB7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2D8F0-366A-4D3C-AD9A-39094656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ECF7E-4980-4799-8E4D-16D46C4C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55D67-C367-4F91-9DCC-AD2DCC9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247-91AE-4F49-9FDE-C214C21C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FD992-7BA3-498C-91A0-8C8A5FB0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E18C5-8B6C-48CA-89C2-B74D9DC5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5D17A-DD21-4547-B882-E058A04F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A66B0-EE11-4914-A95C-7FD12DD1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E8DA0-CAA6-4EC6-B213-3095E5BE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0998-3423-4046-B93C-49E716DF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ADD5-3A50-4420-9189-F2A69E10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1BFA-A933-42BC-8C7F-6BE29B7E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D07A-7CF3-4D84-823A-D2FBA53C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12EC-CB4A-4A16-859D-04D2B355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B45-3308-41AC-AA60-DC01AD3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2D17-1C02-4F96-905D-AC24A4D9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8F1E-3928-41C1-9F0F-B46DAE27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69CC-C6F9-4E47-A479-7B9BFE0E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1520-8CEB-49BC-9651-3C5494D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84B7-8621-4AD8-BB80-4EDE6249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61D3-C772-4487-804C-893F0789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20E8-45F3-477A-9F8F-990C1283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C8DB1-3303-453B-B1DB-57E150FE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7CE43-A567-4556-BA97-F53277A7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91B48-CF22-41EA-A394-3244A826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93F-87D6-46F8-80A2-0E1D38A9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A8267-C18A-4C7C-AD6F-E29B082C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A5F22-AFA7-4D45-947C-029082E3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82533-11C8-4AFC-9CDC-44AA6827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1E0DB-062F-494B-BA77-DBD5C91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D0F93-526F-4B01-84E4-ED17293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EF3F8-9A31-468D-96CE-7949BB54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81EA9-1125-4E13-893D-9DF958B8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9CD43-FF73-45F2-9333-7F02C20C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3D0AE-A3B2-494D-8E36-1CB985C1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0E651-8E14-439F-81E6-4E291865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3B8-20DB-4971-83E5-D97DA762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495DB-1130-4E0E-8916-ADDF6795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E72B9-BF2A-4397-89D0-CA565F1E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4307-A456-45BF-9E4A-17B7D72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806B-D80C-4D14-86C8-7F0DC9B1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76EDC-65ED-4DCC-A463-1412E22E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2AEE-FD90-4D7A-914B-5530A2D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9102-CD38-4DCA-A14F-E54B54B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2BB7-5255-45C8-BF09-8671AB8C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1B332-C282-4F82-B91D-2F24F375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5F91C-6BD5-4DB7-9358-C94FB686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7B7-E7F5-48D0-BB25-0649270F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5ACF-DCE4-4C76-9444-F9F7E1C2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0F5B1-1B9B-443B-AD7B-B50D421D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5AE6-9E97-4B42-8D63-B940369D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0AD6-A319-4D77-8BF6-E335EEC1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6E361-B37A-43DA-BF6B-807D8E1D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6270C-AFE8-4636-A1B2-7F08206C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31260-6E52-4877-9241-02E38FFD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C4B0-F0D9-4482-B12E-72B583A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78112-E82C-48B4-B04F-2A33DC5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B57AE-1BD7-4390-811A-1A37FDC2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B15-9112-4EEA-9C9F-8753CCD0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A6F3F-698A-4B94-818B-853E6DCB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68426-A6B9-4C9A-A189-89DD0F5B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463D4-C343-429A-8A5B-60511476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636B-19F5-4FA3-A5C0-1965C646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C747A-8061-46E7-BB37-625B7B0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4AE7-A43F-431A-83E5-556CA7D3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4F542-8545-4FAA-A5FD-FEEDB0AE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2149D-068B-4D3D-BD9E-1E8EAE8F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762AC-A560-4A97-B1B4-7FE3C32B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24D66-3B93-4602-89A9-5167BD5E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556-4466-4C89-BBEA-1A8B9449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C17CA-D2A3-4511-A08C-040E341C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B0CB9-D103-49F7-BC46-62FEC6CA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85DCF-A6C9-428D-AC04-D66B0903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AF9C5-D786-4F89-8E52-C84A546A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C8AFA-9DBA-41A9-9E90-C0348967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C01D9-C88F-4DD2-9ACF-3E14A02D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CC258C-F72F-4FC1-B7DF-97EF3666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23A175-9927-4C9C-91A9-C855D898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9840F5-7112-4633-9933-D3346A12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723427-2550-4A35-99E0-9F8CA9D9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991-2A20-4CA2-84AE-C7C82520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2C5AB9-35C2-429A-8A18-09CB9B30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1E4ADE-A180-411A-BA17-BBEB72B6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233E7-4D02-428D-8D68-0EC9D5E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F54DB3-B40D-4B1E-AB42-2A9293D8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A262A-D4D7-42F5-9CC7-A38013CE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6561B7-EA9E-49CE-894E-C7054EC0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418B9F-AA89-4CBE-9B56-D8CE05A6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6C6BA-C127-4503-BB09-E9415FCD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81EE2E-6D1D-4AE0-8994-9FD6017A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F3C7A6-BCA4-4DB8-B5AE-1A4EF6FD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1A94-FB5E-4DF4-B490-038420DF71B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0B60-27E3-403D-A0FC-B463BFCB11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27C4-2B7E-4D73-ACA1-D058AA8FC44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AE4F-838C-4E23-9FD5-7F5D586F43C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FB5-659C-4AB0-8CF3-71FEF5B5D8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A94D-7B8C-4BF9-8A94-2F9C4BF948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5383-16A1-4B70-96A8-70CCA8C65FB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3CFC-3B06-47F5-9E6C-4F8E4A25D3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8459-AB47-4C91-A310-B666658CCA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67560" cy="22366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Praxis Prep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28240" y="152388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ssilization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oint past which language learners can not progress w/o exceptional effort or motiv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gative transfer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lating prior experience in a detrimental manner to a new task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miotic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tudy of signs and their meanings based on semantics (relation to referents), syntactic (relation among formal structures) &amp; pragmatics (relation to the effect they have on people)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457200" y="1646280"/>
          <a:ext cx="8229600" cy="447984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4191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Theor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Basic Premi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Key El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Georgi Lozan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Learning is 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atter of attitude, not aptitud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esentation (prep stage where students are helped to relax &amp; form a positive attitud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First Concert/Active Concert (active presentation of material to be learn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Second Concert/Passive Concert (students are told to relax &amp; liste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actice (the use of games, puzzles, etc. to consolidate the learnin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74200" cy="9892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560" y="1646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ransitional bilingual program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kes use of the idea that students will progress in L2 faster if proficient in their L1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Involves bilingual teaching in core subject areas with the learner transitioning to English only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intenance bilingual program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uilds on L1 while learning L2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Believes that L1 should be enhanced &amp; preserved 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Enrichment model that builds both L1 &amp; L2 in a continual model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564760" cy="131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57200" y="1646280"/>
          <a:ext cx="8229600" cy="393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Cogni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Affec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(Behavior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sychomo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hought or knowled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easureab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What the student is able to 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Observab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TLW know the difference between the types of objecti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Feelings or cho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How the student chooses to behave or 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TLW will demonstrate a positive attitude toward others of  different  cultures and language register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hysical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What the student can perfo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TLW complete jumping jacks as illustrated in clas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560" y="164592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aralinguistic features of communication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spects of language that are encoded separately from words (using vocal cues. . . Changing our speech patterns based on questions, punctuation, purpose, etc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Meta-linguistic knowledge: 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wareness of the features &amp; rules of a given language, beyond simply being able to use them; interaction between language and a written tex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caffolding:  actions that build or increase comprehension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are some scaffolding strategies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909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228600" y="1645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edagogical appro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 approach that looks at how we teach, particularly on the strategies we choose and how we present inform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lent way of teaching method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voids the use of vernacular; teacher is in control and is able to listen to L2s descriptions of actions performed and gestures us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7454880" cy="10922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76212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Alveolar fricative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und produced with the tip of the tongue on or near the tooth rid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ample:  /s/ in si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Manner of articulation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s how the tongue, lips, jaw, &amp; other speech organs are involved in making a sound make contact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ypically, refers to consonants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749600" y="-648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2860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alato-alveolar fricative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und produced with the tongue farther back in the mout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ample:  [S] as in sh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ircumlocution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irect way of saying something; use of wordiness to avoid getting to the poi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ample:  it’s not you; it’s me.  You’re great!  Anyone would be lucky to have a boyfriend like you.  One day, I’ll regret this decision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749600" y="146160"/>
            <a:ext cx="7175160" cy="1012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Minimal pair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wo words that differ in one sound onl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797400" indent="-18468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ample:  bit/pit, bet/set, lap/lab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Palatalization: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Rockwell"/>
              </a:rPr>
              <a:t>Pronounce a consonant with the tongue against the roof of the mouth</a:t>
            </a:r>
            <a:endParaRPr b="0" lang="en-US" sz="31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Redundancy reduction: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Rockwell"/>
              </a:rPr>
              <a:t>Redundancy is providing more information than is needed for communication; reduction is reducing the occurrence of this </a:t>
            </a:r>
            <a:endParaRPr b="0" lang="en-US" sz="31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217000" cy="1013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808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en using more than one adjective in a sentence, use the following order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762120" y="2209680"/>
          <a:ext cx="7696080" cy="195120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192384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n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r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Opinion &amp; general 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mension, size, &amp; we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Ag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Shap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nice, fun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big, 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old, ne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round, squ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762120" y="4267080"/>
          <a:ext cx="7696080" cy="195120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192384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8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Co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Country of Orig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ateri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urpose &amp; P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green, 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English, Itali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wooden, cot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tennis (shoes), walking (stic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835200" y="146160"/>
            <a:ext cx="8510400" cy="1012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 difference between the following forms of assessment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chievement (measures what a person knows or can do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roficiency (measures performance according to a set goal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iagnostic (reveals strengths/weaknesses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lacement (used to determine accurate instructional needs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erformance-based assessment (measures application of skills, etc. through meaningful 7 engaging tasks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907920" y="146160"/>
            <a:ext cx="830916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"/>
          <p:cNvGraphicFramePr/>
          <p:nvPr/>
        </p:nvGraphicFramePr>
        <p:xfrm>
          <a:off x="304920" y="1600200"/>
          <a:ext cx="8534160" cy="4297320"/>
        </p:xfrm>
        <a:graphic>
          <a:graphicData uri="http://schemas.openxmlformats.org/drawingml/2006/table">
            <a:tbl>
              <a:tblPr/>
              <a:tblGrid>
                <a:gridCol w="2133360"/>
                <a:gridCol w="1974960"/>
                <a:gridCol w="2292480"/>
                <a:gridCol w="2133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Linguistic appro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Language experience appro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asel-reader appro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Sight-word recogni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4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plores teaching based on ABCs, grammar, spelling, etc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akes use of students’ experiences and emphasizes mean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ased on commercialized series of books; scope &amp; sequenc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Focuses on the learner’s ability to recognize high-functional or basic sight words instantly; automaticity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907920" y="146160"/>
            <a:ext cx="8255160" cy="10062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Use English to communicate in social setting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cial langua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Use English to achieve academically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ademic langua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Use English in socially &amp; cultural  appropriate way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cio-cultural knowled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unity language learning appro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udents work together to determine what aspect of language is to be learne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unicative language teaching appro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mphasizes skills used in real communication rather than in academic situation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udio- lingual (ism) appro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ocuses on drill &amp; kill; believes that language learning is a matter of habit form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22:38Z</dcterms:created>
  <dc:creator>MComer</dc:creator>
  <dc:description/>
  <cp:keywords/>
  <dc:language>en-US</dc:language>
  <cp:lastModifiedBy>MComer</cp:lastModifiedBy>
  <dcterms:modified xsi:type="dcterms:W3CDTF">2010-04-19T16:07:09Z</dcterms:modified>
  <cp:revision>1</cp:revision>
  <dc:subject/>
  <dc:title>Linguistics Review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